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BDDC-1E1B-4B96-8065-E58FBD4C5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sxc.hu/photo/253109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letta, José A.  (2005, February 7).  At school 2.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ock Xchng.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ieved June 7, 2012, from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xc.hu/photo/2531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C758-0DB3-4E52-B0F6-2C1D2DB8E18E}" type="slidenum">
              <a:rPr b="0" lang="en-US" sz="1200" spc="-1" strike="noStrike">
                <a:solidFill>
                  <a:srgbClr val="2f2b2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B711-DA82-46E7-854C-E60360AC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0B43-8F9D-4BA2-BAB3-C377FBE5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95A4-5C74-47FB-9713-5A544D27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C73D-3ED6-4410-9B90-BCB5B73D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4B32E-A8E0-46E7-B531-C74C86B3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BF6D-5330-4CCC-9A46-0F7D29F0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DC8E-5816-465A-89B1-E0B03110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B0F9-D02C-47B6-A396-8137281F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14B8E-1CD2-4E27-ACD3-02818BFB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93C5-8FBB-4020-AB54-9D9076B0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F0DD-D733-416C-A22E-957DDFCD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12B0-A33D-4267-853C-697C1C9D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29CA-BD2B-4014-BA46-A8AC6399A6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9047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Cómo diseñar objetivos </a:t>
            </a:r>
            <a:br>
              <a:rPr sz="4000"/>
            </a:b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de aprendizaje en unidades temáticas </a:t>
            </a:r>
            <a:br>
              <a:rPr sz="4000"/>
            </a:b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y cómo verificar su logro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Dr. Blair Batem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Brigham Young Univer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181480" y="3962520"/>
            <a:ext cx="274320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Objetivos Culturale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s productos, las prácticas y las perspectivas culturales que los estudiantes van a aprender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tudents will be able to compare and contrast eating habits in Spain and the U.S.”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tudents will be able to discuss the cultural perspectives associated with the </a:t>
            </a:r>
            <a:r>
              <a:rPr b="0" i="1" lang="en-US" sz="2800" spc="-1" strike="noStrike">
                <a:solidFill>
                  <a:srgbClr val="2f2b20"/>
                </a:solidFill>
                <a:latin typeface="Calibri"/>
              </a:rPr>
              <a:t>Día de los muertos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in Mexico.”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8" name="Picture 2" descr="C:\Users\chericem\AppData\Local\Microsoft\Windows\Temporary Internet Files\Content.IE5\139ABM5S\MC900098075[1].wmf"/>
          <p:cNvPicPr/>
          <p:nvPr/>
        </p:nvPicPr>
        <p:blipFill>
          <a:blip r:embed="rId1"/>
          <a:stretch/>
        </p:blipFill>
        <p:spPr>
          <a:xfrm>
            <a:off x="5867280" y="5257800"/>
            <a:ext cx="18129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52280" y="217440"/>
            <a:ext cx="876312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La evaluación del aprendizaje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360" y="1599840"/>
            <a:ext cx="647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La evaluación eficaz . . 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oncuerda con los objetivos de la lección o unidad, permitiendo verificar si se han cumplido los objetivos propuestos (es decir, si los estudiantes han aprendido lo que se pretendía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4343400" y="4038480"/>
            <a:ext cx="3657600" cy="232596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4343400" y="647712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b20"/>
                </a:solidFill>
                <a:latin typeface="Calibri"/>
              </a:rPr>
              <a:t>Image:  José A. Warletta</a:t>
            </a: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Tipos de evaluación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571644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Ejemplos de evaluació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Objetivo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udents will be able to use the 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</a:rPr>
              <a:t>yo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m of regular present tense 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</a:rPr>
              <a:t>–ar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verbs to tell what they do in their free tim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udents will be able to correctly write down the phone numbers that callers left on a Spanish answering machine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udents will be able to describe the tradition of 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</a:rPr>
              <a:t>las posada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using key vocabulary such as 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</a:rPr>
              <a:t>peregrinos, posada, villancicos, piñata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1972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Evaluació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Observe students as they describe their free-time activities to their partner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Verify that students wrote down the phone numbers correctly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ave students write a paragraph about 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</a:rPr>
              <a:t>las posada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using the vocabulary words listed; give points for content and correct use of vocabulary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Listas (checklists)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mprueban si los estudiantes pueden hacer o han hecho algo (“sí / no”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3048120"/>
          <a:ext cx="7315200" cy="2860560"/>
        </p:xfrm>
        <a:graphic>
          <a:graphicData uri="http://schemas.openxmlformats.org/drawingml/2006/table">
            <a:tbl>
              <a:tblPr/>
              <a:tblGrid>
                <a:gridCol w="6095880"/>
                <a:gridCol w="609480"/>
                <a:gridCol w="60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ells interviewee’s gender, age, birthplace, and occupatio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xplains how and when interviewee immigrated to Utah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escribes at least one challenge the interviewee fa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escribes how interviewee maintains a connection to his/her cultur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peaks for a minimum of 3 minutes.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rns in written version of interview summary.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  <p:sp>
        <p:nvSpPr>
          <p:cNvPr id="93" name="TextBox 4"/>
          <p:cNvSpPr/>
          <p:nvPr/>
        </p:nvSpPr>
        <p:spPr>
          <a:xfrm>
            <a:off x="1066680" y="251460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Exemplo: Entrevista con una persona hispánica en Utah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Matrices de valoración (rúbricas)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14264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specifican los criterios a evaluar al llevar a cabo una tare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Utilizan una gama para medir el rendimiento de los alumnos en cada criterio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2f2b20"/>
                </a:solidFill>
                <a:latin typeface="Calibri"/>
              </a:rPr>
              <a:t>Especifican lo que constituye un desempeño excelente en cada criterio (y en algunos casos, un nivel medio e inferior de rendimiento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3505320"/>
          <a:ext cx="6933960" cy="3017880"/>
        </p:xfrm>
        <a:graphic>
          <a:graphicData uri="http://schemas.openxmlformats.org/drawingml/2006/table">
            <a:tbl>
              <a:tblPr/>
              <a:tblGrid>
                <a:gridCol w="4647960"/>
                <a:gridCol w="2286000"/>
              </a:tblGrid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úbrica para examen ora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or               Excellent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ronunciation:</a:t>
                      </a: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Correct sounds; stress on correct syllables; acceptable accent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     2      3      4      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Vocabulary: </a:t>
                      </a: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rrect use of words and expressions for task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     2      3      4      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Grammar: </a:t>
                      </a: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rrect use of language rules studied so fa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     2      3      4      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ask Performance: </a:t>
                      </a: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Overall ability to accomplish task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      2      3      4      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7620120" cy="4800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128520" y="304920"/>
            <a:ext cx="8852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09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457200" y="1981080"/>
            <a:ext cx="7543800" cy="3733920"/>
          </a:xfrm>
          <a:prstGeom prst="rect">
            <a:avLst/>
          </a:prstGeom>
          <a:solidFill>
            <a:srgbClr val="a9a57c">
              <a:alpha val="44000"/>
            </a:srgbClr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5e47"/>
                </a:solidFill>
                <a:latin typeface="Cambria"/>
              </a:rPr>
              <a:t>Objetivos: </a:t>
            </a:r>
            <a:br>
              <a:rPr sz="3200"/>
            </a:br>
            <a:r>
              <a:rPr b="1" lang="en-US" sz="3200" spc="-1" strike="noStrike">
                <a:solidFill>
                  <a:srgbClr val="675e47"/>
                </a:solidFill>
                <a:latin typeface="Cambria"/>
              </a:rPr>
              <a:t>Ejemplos buenos y no tan buenos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f2b20"/>
                </a:solidFill>
                <a:uFillTx/>
                <a:latin typeface="Calibri"/>
              </a:rPr>
              <a:t>Objectiv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Bell work: Fill-in-the-blank handout on reflexive verb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orrect bell wor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Explain reciprocal reflexive  p. 119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Activities A &amp; B p. 120 in pair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Game: Piccionario w/vocab from chapt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20760" y="3578400"/>
            <a:ext cx="7559640" cy="2361960"/>
          </a:xfrm>
          <a:prstGeom prst="rect">
            <a:avLst/>
          </a:prstGeom>
          <a:solidFill>
            <a:srgbClr val="a9a57c">
              <a:alpha val="44000"/>
            </a:srgbClr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11040" y="1523880"/>
            <a:ext cx="7543800" cy="1752840"/>
          </a:xfrm>
          <a:prstGeom prst="rect">
            <a:avLst/>
          </a:prstGeom>
          <a:solidFill>
            <a:srgbClr val="a9a57c">
              <a:alpha val="44000"/>
            </a:srgbClr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5e47"/>
                </a:solidFill>
                <a:latin typeface="Cambria"/>
              </a:rPr>
              <a:t>Objetivos: </a:t>
            </a:r>
            <a:br>
              <a:rPr sz="3200"/>
            </a:br>
            <a:r>
              <a:rPr b="1" lang="en-US" sz="3200" spc="-1" strike="noStrike">
                <a:solidFill>
                  <a:srgbClr val="675e47"/>
                </a:solidFill>
                <a:latin typeface="Cambria"/>
              </a:rPr>
              <a:t>Ejemplos buenos y no tan buenos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Objectiv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amiliarize students with food products in Argentina, the way their supermarkets are set up, and the way prices are writte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311040" y="3657600"/>
            <a:ext cx="7543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f2b20"/>
                </a:solidFill>
                <a:uFillTx/>
                <a:latin typeface="Calibri"/>
              </a:rPr>
              <a:t>Objectives: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 Students will be able to . . 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∙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derstand and interpret two authentic Argentine websit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∙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List typical products in an Argentine supermarke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∙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mpare Argentine products with those sold in U.S. supermarke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∙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Write prices correctly in Spani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∙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monstrate understanding of advertising used by Argentine supermarkets by producing their own supermarket advertisemen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5e47"/>
                </a:solidFill>
                <a:latin typeface="Cambria"/>
              </a:rPr>
              <a:t>Objetivos buenos…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26370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2f2b20"/>
                </a:solidFill>
                <a:uFillTx/>
                <a:latin typeface="Calibri"/>
              </a:rPr>
              <a:t>No tan bueno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Learn the present tense of regular </a:t>
            </a:r>
            <a:r>
              <a:rPr b="0" i="1" lang="en-US" sz="2300" spc="-1" strike="noStrike">
                <a:solidFill>
                  <a:srgbClr val="2f2b20"/>
                </a:solidFill>
                <a:latin typeface="Calibri"/>
              </a:rPr>
              <a:t>–ar</a:t>
            </a: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 verbs.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Practice listening comprension.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Watch a video about </a:t>
            </a:r>
            <a:r>
              <a:rPr b="0" i="1" lang="en-US" sz="2300" spc="-1" strike="noStrike">
                <a:solidFill>
                  <a:srgbClr val="2f2b20"/>
                </a:solidFill>
                <a:latin typeface="Calibri"/>
              </a:rPr>
              <a:t>las posadas</a:t>
            </a: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 in Mexico.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71800" y="261144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2f2b20"/>
                </a:solidFill>
                <a:uFillTx/>
                <a:latin typeface="Calibri"/>
              </a:rPr>
              <a:t>Mejor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Students will be able to use the </a:t>
            </a:r>
            <a:r>
              <a:rPr b="0" i="1" lang="en-US" sz="2300" spc="-1" strike="noStrike">
                <a:solidFill>
                  <a:srgbClr val="2f2b20"/>
                </a:solidFill>
                <a:latin typeface="Calibri"/>
              </a:rPr>
              <a:t>yo </a:t>
            </a: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form of regular present tense </a:t>
            </a:r>
            <a:r>
              <a:rPr b="0" i="1" lang="en-US" sz="2300" spc="-1" strike="noStrike">
                <a:solidFill>
                  <a:srgbClr val="2f2b20"/>
                </a:solidFill>
                <a:latin typeface="Calibri"/>
              </a:rPr>
              <a:t>–ar</a:t>
            </a: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 verbs to tell what they do in their free time.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Students will be able to correctly write down the phone numbers that callers left on a Spanish answering machine.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Students will be able to describe the tradition of </a:t>
            </a:r>
            <a:r>
              <a:rPr b="0" i="1" lang="en-US" sz="2300" spc="-1" strike="noStrike">
                <a:solidFill>
                  <a:srgbClr val="2f2b20"/>
                </a:solidFill>
                <a:latin typeface="Calibri"/>
              </a:rPr>
              <a:t>las posadas</a:t>
            </a:r>
            <a:r>
              <a:rPr b="0" lang="en-US" sz="2300" spc="-1" strike="noStrike">
                <a:solidFill>
                  <a:srgbClr val="2f2b20"/>
                </a:solidFill>
                <a:latin typeface="Calibri"/>
              </a:rPr>
              <a:t> using key vocabulary such as </a:t>
            </a:r>
            <a:r>
              <a:rPr b="0" i="1" lang="en-US" sz="2300" spc="-1" strike="noStrike">
                <a:solidFill>
                  <a:srgbClr val="2f2b20"/>
                </a:solidFill>
                <a:latin typeface="Calibri"/>
              </a:rPr>
              <a:t>peregrinos, posada, villancicos, piñata.</a:t>
            </a: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57200" y="1066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2b20"/>
                </a:solidFill>
                <a:latin typeface="Calibri"/>
              </a:rPr>
              <a:t>Especifican lo que los estudiantes deben saber y ser capaces de hacer al final de la lecció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2b20"/>
                </a:solidFill>
                <a:latin typeface="Calibri"/>
              </a:rPr>
              <a:t>Son lo suficientemente específicos para poder evaluar fácilmente lo bien que se han logrado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6840" y="6091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De </a:t>
            </a:r>
            <a:r>
              <a:rPr b="1" i="1" lang="en-US" sz="2800" spc="-1" strike="noStrike">
                <a:solidFill>
                  <a:srgbClr val="2f2b20"/>
                </a:solidFill>
                <a:latin typeface="Calibri"/>
              </a:rPr>
              <a:t>Las aventuras de Alice en el país de las maravilla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lice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heshire Puss, would you tell me, please, which 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        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ay I ought to go from her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heshire Cat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at depends a good deal on where you want to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         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et to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lice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 don’t much care where—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heshire Cat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en it doesn’t matter which way you go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lice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—so long as I get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somewhere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heshire Cat: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h, you’re sure to do that, if you only walk long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         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oug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Tipos de objetivo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14400" y="2133720"/>
            <a:ext cx="7772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Objetivos comunicativo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Objetivos lingüístico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Objetivos de contenido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Objetivos culturale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Objetivos Comunicativo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as tareas o funciones linguísticas que los estudiantes van a aprender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tudents will be able to order a meal in a restaurant.”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tudents will be able to describe their morning routine as they prepare for school.”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792760" y="4952880"/>
            <a:ext cx="23605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Objetivos Lingüísticos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os conceptos gramaticales y el vocabulario que los estudiantes van a aprender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tudents will be able to give affirmative and negative commands in the </a:t>
            </a:r>
            <a:r>
              <a:rPr b="0" i="1" lang="en-US" sz="2800" spc="-1" strike="noStrike">
                <a:solidFill>
                  <a:srgbClr val="2f2b20"/>
                </a:solidFill>
                <a:latin typeface="Calibri"/>
              </a:rPr>
              <a:t>tú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form.”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tudents will be able to use the preterite and imperfect to relate a humorous experience.”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5e47"/>
                </a:solidFill>
                <a:latin typeface="Cambria"/>
              </a:rPr>
              <a:t>Objetivos de Contenido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El material académico o temático que los estudiantes van a aprender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tudents will be able to locate the countries of Central America on a map.”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tudents will be able to identify animals that live in the rain forest.”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5" name="Picture 3" descr="C:\Users\chericem\AppData\Local\Microsoft\Windows\Temporary Internet Files\Content.IE5\139ABM5S\MC900013467[1].wmf"/>
          <p:cNvPicPr/>
          <p:nvPr/>
        </p:nvPicPr>
        <p:blipFill>
          <a:blip r:embed="rId1"/>
          <a:stretch/>
        </p:blipFill>
        <p:spPr>
          <a:xfrm>
            <a:off x="6858000" y="5181480"/>
            <a:ext cx="10969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20:03:05Z</dcterms:created>
  <dc:creator>Windows User</dc:creator>
  <dc:description/>
  <dc:language>en-US</dc:language>
  <cp:lastModifiedBy>Windows User</cp:lastModifiedBy>
  <dcterms:modified xsi:type="dcterms:W3CDTF">2012-06-07T22:17:21Z</dcterms:modified>
  <cp:revision>40</cp:revision>
  <dc:subject/>
  <dc:title>PowerPoint Presentation</dc:title>
</cp:coreProperties>
</file>